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D81F-C034-432C-B440-CE82AA5A8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6F52-20E0-4610-A0C6-F10887626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FC8-4B1C-4184-B89A-BF201013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20D-3A0C-49C2-ADE2-3DEBE79B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7BB-D934-40C2-9581-4F7CE69D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373-F3B9-4B30-B0E2-39B9CBD4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2F7-1CA9-406A-8601-33A19CF4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A17-7206-4F37-A6A0-4D021BC2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2E3-6364-485F-B2B9-A7713D3D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90E-F32C-49E4-ADE4-D39AE1C0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557-0261-4831-8323-3AC2A3A6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A7A-9D2E-4951-AC11-8142CDE5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A5B-48CA-4EC7-9051-15057641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796-5FE0-4C65-B1E9-6F3C4621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C67E-3424-418D-93DE-C8FF712E4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fes-framework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ming the Tower of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ftware Assurance Findings Expression Schema (SAFES)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an Barn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 June, 20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tential 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768320"/>
          <a:ext cx="8763120" cy="5089680"/>
        </p:xfrm>
        <a:graphic>
          <a:graphicData uri="http://schemas.openxmlformats.org/drawingml/2006/table">
            <a:tbl>
              <a:tblPr/>
              <a:tblGrid>
                <a:gridCol w="1298520"/>
                <a:gridCol w="746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vehicle of publication (IP contr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transforms to and from native sch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SAFES to a more stable and permanent 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comprehensive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uthoring/editing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report generation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 a real project using SAF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more tools within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actor schema for efficiency and redundanc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alignment between SAFES and KDM, ARM, SAEM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e schema infrastructure (e.g. XMI compliant) for improved automation interchange and enabling framework lay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new tools outside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day’s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05740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standard reporting format for Sw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perspective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tool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inefficient for tool vendors looking to integrate results with other tools (very costly and redunda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trend across assessments from different tools or analy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automate meta-analysis and the assessment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Framework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Assurance Findings Expression Schema (SAF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1 (v0.1) sponsored by the NSA Center for Assured Software (C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nd encourage consistency in software assurance tool and service 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more structured and effectively useful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integration of results from multiple software assurance tool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utomated processing of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from state of the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with state of the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 comprehensive schema covering all aspects of software assurance analysis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ve for usability, flexibility and 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ure towards f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Initial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scope perspectives for initial effort (v0.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source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binary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application penetr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ecurit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z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tectural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endors actively collaborating others were passively incorpo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3123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fi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tego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nalysi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or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c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876920" y="3048120"/>
            <a:ext cx="3809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, content &amp;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siness/mission and security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ssuranc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threa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457200" y="20574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FES is a comprehensive and detailed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ampling of Potential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057400"/>
            <a:ext cx="3886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erstand the Business Context of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echnical risks to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he application attack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elevant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ventory and characterize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threa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FISMA security categorization (FIPS-1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Security Planning (SP800-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Risk Assessment (SP800-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duct multi-tool/multi-perspec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false pos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acter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orit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4876920" y="2133720"/>
            <a:ext cx="38862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late fin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itch dynamic &amp; static location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grate automated and manu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use common mitigation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ssessme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different versions of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an assurance case for an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n assurance case complianc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ort CWE content into local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common finding trends across portfolio by technology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ntain analysis accou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trends in tool and rule effic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ping between various tool level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Maturation Paths Beyond v0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S Maturation Pa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bility: primarily focused on efforts surrounding the schema to make it more usable by the community such as native transforms, tool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inement: primarily focused on improving the quality and coverage of the schema itself with activities such as adding new perspectives, adding new schemas, fixing erro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ization: primarily focused on gradually (as quickly as is prudent and accepted by the targeted user community) incorporating in formal standards-based approaches (vocabulary, structure,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0.1 completed and now available on the SAFES websi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fes-framework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working with sponsor to finalize decision of next steps to pur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ing up new supporters/spo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various stakeholders in the community to support their use of SAFES and elicit their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7:04:33Z</dcterms:created>
  <dc:creator>Sean Barnum</dc:creator>
  <dc:description/>
  <dc:language>en-US</dc:language>
  <cp:lastModifiedBy>Administrator</cp:lastModifiedBy>
  <dcterms:modified xsi:type="dcterms:W3CDTF">2010-06-14T17:31:32Z</dcterms:modified>
  <cp:revision>2</cp:revision>
  <dc:subject/>
  <dc:title>Taming the Tower of Babel: Software Assurance Findings Expression Schema (SAFES) Framework </dc:title>
</cp:coreProperties>
</file>